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304B2-AF31-42ED-B584-1CD50BAEEC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107EC-9E07-4D43-BA2C-0B80F493B7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32080"/>
            <a:ext cx="83059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87720"/>
            <a:ext cx="83059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32080"/>
            <a:ext cx="40532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13480" y="1432080"/>
            <a:ext cx="40532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87720"/>
            <a:ext cx="40532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13480" y="3987720"/>
            <a:ext cx="40532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32080"/>
            <a:ext cx="2674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5920" y="1432080"/>
            <a:ext cx="2674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4280" y="1432080"/>
            <a:ext cx="2674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87720"/>
            <a:ext cx="2674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5920" y="3987720"/>
            <a:ext cx="2674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4280" y="3987720"/>
            <a:ext cx="2674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32080"/>
            <a:ext cx="8305920" cy="48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32080"/>
            <a:ext cx="830592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32080"/>
            <a:ext cx="405324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13480" y="1432080"/>
            <a:ext cx="405324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83059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32080"/>
            <a:ext cx="40532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13480" y="1432080"/>
            <a:ext cx="405324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87720"/>
            <a:ext cx="40532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32080"/>
            <a:ext cx="405324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3480" y="1432080"/>
            <a:ext cx="40532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13480" y="3987720"/>
            <a:ext cx="40532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32080"/>
            <a:ext cx="40532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3480" y="1432080"/>
            <a:ext cx="40532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87720"/>
            <a:ext cx="83059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432080"/>
            <a:ext cx="830592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1008000"/>
            <a:ext cx="91440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26520" y="6464160"/>
            <a:ext cx="29840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Copyright 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  <a:ea typeface="Arial"/>
              </a:rPr>
              <a:t>©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 2003 Pearson Education Canada Inc.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077320" y="6478560"/>
            <a:ext cx="81900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Slide 2-</a:t>
            </a:r>
            <a:fld id="{9CBB36EF-6D36-4A4E-974C-8C3D59C5148B}" type="slidenum">
              <a:rPr b="0" lang="en-US" sz="10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47280" y="1825560"/>
            <a:ext cx="7543800" cy="322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hapter 2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n Introduction to Cost Terms and Purpose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5638680" y="1828800"/>
            <a:ext cx="3048120" cy="4267080"/>
          </a:xfrm>
          <a:prstGeom prst="rect">
            <a:avLst/>
          </a:prstGeom>
          <a:solidFill>
            <a:srgbClr val="0000cc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sts in a Retail / Wholesale Compan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15960" y="4190760"/>
            <a:ext cx="18986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Inventoriable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(Product)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Costs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33520" y="2743200"/>
            <a:ext cx="1828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8000"/>
          </a:bodyPr>
          <a:p>
            <a:pPr marL="301680" indent="-3016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erchandis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01680" indent="-3016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urchase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124080" y="2743200"/>
            <a:ext cx="1828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8000"/>
          </a:bodyPr>
          <a:p>
            <a:pPr marL="301680" indent="-3016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erchandis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01680" indent="-3016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Inventory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943600" y="2895480"/>
            <a:ext cx="2590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ost of Goods Sold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867280" y="2057400"/>
            <a:ext cx="2590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Revenu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867280" y="3733920"/>
            <a:ext cx="2590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Gross Margin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362320" y="3124080"/>
            <a:ext cx="761760" cy="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105520" y="3124080"/>
            <a:ext cx="838080" cy="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867280" y="4419720"/>
            <a:ext cx="2743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marL="335880" indent="-3358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arketing and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5880" indent="-335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Administrative Cost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867280" y="5562720"/>
            <a:ext cx="2590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Operating Incom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581280" y="4495680"/>
            <a:ext cx="1828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8000"/>
          </a:bodyPr>
          <a:p>
            <a:pPr marL="301680" indent="-3016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Period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01680" indent="-3016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Cost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181480" y="4419720"/>
            <a:ext cx="228600" cy="8380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 rot="16200000">
            <a:off x="1409400" y="3161520"/>
            <a:ext cx="152280" cy="1295640"/>
          </a:xfrm>
          <a:custGeom>
            <a:avLst/>
            <a:gdLst>
              <a:gd name="textAreaLeft" fmla="*/ 97200 w 152280"/>
              <a:gd name="textAreaRight" fmla="*/ 152640 w 152280"/>
              <a:gd name="textAreaTop" fmla="*/ 33480 h 1295640"/>
              <a:gd name="textAreaBottom" fmla="*/ 1262160 h 129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162920" y="647712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 41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172200" y="3505320"/>
            <a:ext cx="213372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172200" y="5334120"/>
            <a:ext cx="213372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67280" y="1295280"/>
            <a:ext cx="2590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Income Statement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1295280"/>
            <a:ext cx="2590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Balance Sheet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305920" cy="46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sts in a Manufacturing Compan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010280" y="647712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 44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867280" y="2117880"/>
            <a:ext cx="3048120" cy="4267080"/>
          </a:xfrm>
          <a:prstGeom prst="rect">
            <a:avLst/>
          </a:prstGeom>
          <a:solidFill>
            <a:srgbClr val="0000cc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52280" y="5105520"/>
            <a:ext cx="2286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4000"/>
          </a:bodyPr>
          <a:p>
            <a:pPr marL="322200" indent="-3222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Inventoriabl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22200" indent="-3222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(Product)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22200" indent="-3222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Cost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28600" y="1600200"/>
            <a:ext cx="18288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marL="335880" indent="-3358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Direct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5880" indent="-335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aterial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5880" indent="-335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urchase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362320" y="2819520"/>
            <a:ext cx="18288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0000"/>
          </a:bodyPr>
          <a:p>
            <a:pPr marL="308520" indent="-30852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Work in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08520" indent="-3085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roces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08520" indent="-3085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Inventory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172200" y="3184560"/>
            <a:ext cx="2590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ost of Goods Sold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95880" y="2422440"/>
            <a:ext cx="2590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Revenu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95880" y="4022640"/>
            <a:ext cx="2590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Gross Margin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057400" y="2209680"/>
            <a:ext cx="533520" cy="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562720" y="3413160"/>
            <a:ext cx="533160" cy="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095880" y="4708440"/>
            <a:ext cx="2743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marL="335880" indent="-3358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arketing and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5880" indent="-335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Administrative Cost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095880" y="5851440"/>
            <a:ext cx="2590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Operating Incom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9880" y="4724280"/>
            <a:ext cx="18288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Period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Cost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410080" y="4724280"/>
            <a:ext cx="228600" cy="8384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1600 h 838440"/>
              <a:gd name="textAreaBottom" fmla="*/ 816840 h 838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 rot="16200000">
            <a:off x="1066680" y="3809880"/>
            <a:ext cx="152640" cy="1981440"/>
          </a:xfrm>
          <a:custGeom>
            <a:avLst/>
            <a:gdLst>
              <a:gd name="textAreaLeft" fmla="*/ 97560 w 152640"/>
              <a:gd name="textAreaRight" fmla="*/ 153000 w 152640"/>
              <a:gd name="textAreaTop" fmla="*/ 51480 h 1981440"/>
              <a:gd name="textAreaBottom" fmla="*/ 1929960 h 1981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400800" y="3794040"/>
            <a:ext cx="213372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400800" y="5622840"/>
            <a:ext cx="213372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095880" y="1508040"/>
            <a:ext cx="2590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Income Statement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666880" y="1066680"/>
            <a:ext cx="2590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Balance Sheet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38280" y="1752480"/>
            <a:ext cx="1828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aterial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Inventory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320" y="2743200"/>
            <a:ext cx="220968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Direct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Labour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Indirect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anufacturing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ost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038480" y="2819520"/>
            <a:ext cx="18288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4000"/>
          </a:bodyPr>
          <a:p>
            <a:pPr marL="288000" indent="-2880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Finished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288000" indent="-2880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Good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288000" indent="-288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Inventory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886200" y="3352680"/>
            <a:ext cx="533520" cy="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352680" y="2438280"/>
            <a:ext cx="0" cy="38124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057400" y="3124080"/>
            <a:ext cx="533520" cy="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1828800" y="3505320"/>
            <a:ext cx="685800" cy="30456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Many Meanings of Product Cos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57200" indent="-4572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mportant theme of this book is “different costs for different purposes”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5720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ree examples of “product cost”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fafd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oduct pricing and product emphasi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clude all costs incurre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fafd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ntracting with government agenci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y exclude marketing costs and include only a portion of R&amp;D cos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fafd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nancial Statemen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Under GAAP, only manufacturing costs are included in inventor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010280" y="647712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 47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lternative Classifications of Cos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388620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57200" indent="-457200">
              <a:spcBef>
                <a:spcPts val="601"/>
              </a:spcBef>
              <a:buClr>
                <a:srgbClr val="fafd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usiness function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914400" indent="-457200">
              <a:buClr>
                <a:srgbClr val="fafd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&amp;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914400" indent="-457200">
              <a:buClr>
                <a:srgbClr val="fafd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esign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914400" indent="-457200">
              <a:buClr>
                <a:srgbClr val="fafd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oduction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914400" indent="-457200">
              <a:buClr>
                <a:srgbClr val="fafd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rketing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914400" indent="-457200">
              <a:buClr>
                <a:srgbClr val="fafd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istribution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914400" indent="-457200">
              <a:buClr>
                <a:srgbClr val="fafd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ustomer servic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914400" indent="0"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57200" indent="-457200">
              <a:buClr>
                <a:srgbClr val="fafd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ssignment to a cost objec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914400" indent="-457200">
              <a:buClr>
                <a:srgbClr val="fafd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irect cos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914400" indent="-457200">
              <a:buClr>
                <a:srgbClr val="fafd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direct cos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010280" y="647712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48 - 49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648320" y="1447920"/>
            <a:ext cx="38862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ehaviour pattern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fafd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Variable cos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fafd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xed cos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fafd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afd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ggregate or averag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fafd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otal cos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fafd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Unit cos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fafd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afd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ssets or expense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fafd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ventoriable cos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fafd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eriod cos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109440"/>
            <a:ext cx="7772400" cy="88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sts and Cost Objec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32080"/>
            <a:ext cx="830592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 resource sacrificed or foregone to achieve a specific objectiv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 Objec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ny product, machine, service or process for which cost information is accumulate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 objects can vary in size from an entire company, to a division or program within the company, or down to a single product or servic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162920" y="647712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 32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109440"/>
            <a:ext cx="7772400" cy="88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rect and Indirect Cos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520" y="1066680"/>
            <a:ext cx="8458200" cy="3353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irect Cos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 cost which is related to a particular cost objective and can be traced to it in an economically feasible wa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direct Cos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 cost which is related a particular cost objective but cannot be traced to it in an economically feasible wa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direct costs are allocated to cost objectiv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066680" y="4419720"/>
            <a:ext cx="1905120" cy="825480"/>
          </a:xfrm>
          <a:prstGeom prst="rect">
            <a:avLst/>
          </a:prstGeom>
          <a:solidFill>
            <a:srgbClr val="ff00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irec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066680" y="5470560"/>
            <a:ext cx="1905120" cy="825480"/>
          </a:xfrm>
          <a:prstGeom prst="rect">
            <a:avLst/>
          </a:prstGeom>
          <a:solidFill>
            <a:srgbClr val="ff00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direct Cos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867280" y="4495680"/>
            <a:ext cx="1600200" cy="1617840"/>
          </a:xfrm>
          <a:prstGeom prst="rect">
            <a:avLst/>
          </a:prstGeom>
          <a:solidFill>
            <a:srgbClr val="ff00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bjec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2971800" y="4495680"/>
            <a:ext cx="2819520" cy="533520"/>
            <a:chOff x="2971800" y="4495680"/>
            <a:chExt cx="2819520" cy="533520"/>
          </a:xfrm>
        </p:grpSpPr>
        <p:sp>
          <p:nvSpPr>
            <p:cNvPr id="58" name=""/>
            <p:cNvSpPr/>
            <p:nvPr/>
          </p:nvSpPr>
          <p:spPr>
            <a:xfrm>
              <a:off x="2971800" y="5029200"/>
              <a:ext cx="281952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505320" y="4495680"/>
              <a:ext cx="1752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afd00"/>
                  </a:solidFill>
                  <a:latin typeface="Arial"/>
                </a:rPr>
                <a:t>Trace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7238880" y="647712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 33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971800" y="5638680"/>
            <a:ext cx="2819520" cy="459720"/>
            <a:chOff x="2971800" y="5638680"/>
            <a:chExt cx="2819520" cy="459720"/>
          </a:xfrm>
        </p:grpSpPr>
        <p:sp>
          <p:nvSpPr>
            <p:cNvPr id="62" name=""/>
            <p:cNvSpPr/>
            <p:nvPr/>
          </p:nvSpPr>
          <p:spPr>
            <a:xfrm>
              <a:off x="2971800" y="5638680"/>
              <a:ext cx="281952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505320" y="5638680"/>
              <a:ext cx="1752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afd00"/>
                  </a:solidFill>
                  <a:latin typeface="Arial"/>
                </a:rPr>
                <a:t>Allocate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880" y="185760"/>
            <a:ext cx="7772400" cy="72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st Drivers and Cost Manag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274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 driver (cost generator or cost determinant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 factor which causes the amount of cost incurred to chang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oduction costs are driven by the number of products produced, labour costs, number of setups required, and the number of change order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238880" y="647712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 34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4191120"/>
            <a:ext cx="807732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 Reduction Programs focus on two things: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oing only value-added activities 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fficiently manage the use of cost drivers in those value-added activitie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ariable and Fixed Cos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5715000" cy="228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Variable Cos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 cost which is constant per unit but changes in total in proportion to changes in the cost driver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terials (parts), fuel costs for a trucking compan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705720" y="1676520"/>
            <a:ext cx="0" cy="144756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705720" y="3124080"/>
            <a:ext cx="175248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324480" y="16002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$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772400" y="32148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Volume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6705720" y="1828800"/>
            <a:ext cx="1600200" cy="1295280"/>
          </a:xfrm>
          <a:prstGeom prst="line">
            <a:avLst/>
          </a:prstGeom>
          <a:ln w="572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304920" y="3886200"/>
            <a:ext cx="8839080" cy="2362320"/>
            <a:chOff x="304920" y="3886200"/>
            <a:chExt cx="8839080" cy="2362320"/>
          </a:xfrm>
        </p:grpSpPr>
        <p:grpSp>
          <p:nvGrpSpPr>
            <p:cNvPr id="76" name=""/>
            <p:cNvGrpSpPr/>
            <p:nvPr/>
          </p:nvGrpSpPr>
          <p:grpSpPr>
            <a:xfrm>
              <a:off x="6324480" y="4038480"/>
              <a:ext cx="2819520" cy="1982880"/>
              <a:chOff x="6324480" y="4038480"/>
              <a:chExt cx="2819520" cy="1982880"/>
            </a:xfrm>
          </p:grpSpPr>
          <p:sp>
            <p:nvSpPr>
              <p:cNvPr id="77" name=""/>
              <p:cNvSpPr/>
              <p:nvPr/>
            </p:nvSpPr>
            <p:spPr>
              <a:xfrm>
                <a:off x="6705720" y="4114800"/>
                <a:ext cx="0" cy="144792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6705720" y="5562720"/>
                <a:ext cx="175248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6324480" y="4038480"/>
                <a:ext cx="457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afd00"/>
                    </a:solidFill>
                    <a:latin typeface="Arial"/>
                  </a:rPr>
                  <a:t>$</a:t>
                </a:r>
                <a:endParaRPr b="0" lang="en-US" sz="18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848720" y="5653080"/>
                <a:ext cx="1295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afd00"/>
                    </a:solidFill>
                    <a:latin typeface="Arial"/>
                  </a:rPr>
                  <a:t>Volume</a:t>
                </a:r>
                <a:endParaRPr b="0" lang="en-US" sz="18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6705720" y="4876920"/>
                <a:ext cx="1523880" cy="0"/>
              </a:xfrm>
              <a:prstGeom prst="line">
                <a:avLst/>
              </a:prstGeom>
              <a:ln w="572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  <p:sp>
          <p:nvSpPr>
            <p:cNvPr id="82" name=""/>
            <p:cNvSpPr/>
            <p:nvPr/>
          </p:nvSpPr>
          <p:spPr>
            <a:xfrm>
              <a:off x="304920" y="3886200"/>
              <a:ext cx="5790960" cy="236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Fixed Cost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buClr>
                  <a:srgbClr val="fafd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a cost which does not change in total as volume changes but changes on a per-unit basis as the cost driver increases and decreases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buClr>
                  <a:srgbClr val="fafd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amortization, insurance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83" name=""/>
          <p:cNvSpPr/>
          <p:nvPr/>
        </p:nvSpPr>
        <p:spPr>
          <a:xfrm>
            <a:off x="7010280" y="647712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 35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80880" y="109440"/>
            <a:ext cx="7772400" cy="88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levant Range and Cost Behaviou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305560" cy="100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e range of the cost driver in which the a specific relationship between cost and driver is valid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47920" y="3322800"/>
            <a:ext cx="0" cy="167616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447920" y="4998960"/>
            <a:ext cx="213336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914400" y="317016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$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276720" y="508968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Volume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943600" y="3322800"/>
            <a:ext cx="0" cy="167616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43600" y="4998960"/>
            <a:ext cx="213372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10080" y="317016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$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620120" y="50752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Volume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086600" y="647712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 37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553080" y="3322800"/>
            <a:ext cx="0" cy="1676160"/>
          </a:xfrm>
          <a:prstGeom prst="line">
            <a:avLst/>
          </a:prstGeom>
          <a:ln w="12600">
            <a:solidFill>
              <a:srgbClr val="fafd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543800" y="3322800"/>
            <a:ext cx="0" cy="1676160"/>
          </a:xfrm>
          <a:prstGeom prst="line">
            <a:avLst/>
          </a:prstGeom>
          <a:ln w="12600">
            <a:solidFill>
              <a:srgbClr val="fafd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971800" y="3322800"/>
            <a:ext cx="0" cy="1676160"/>
          </a:xfrm>
          <a:prstGeom prst="line">
            <a:avLst/>
          </a:prstGeom>
          <a:ln w="12600">
            <a:solidFill>
              <a:srgbClr val="fafd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057400" y="3322800"/>
            <a:ext cx="0" cy="1676160"/>
          </a:xfrm>
          <a:prstGeom prst="line">
            <a:avLst/>
          </a:prstGeom>
          <a:ln w="12600">
            <a:solidFill>
              <a:srgbClr val="fafd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1523880" y="2666880"/>
            <a:ext cx="2362320" cy="3507840"/>
            <a:chOff x="1523880" y="2666880"/>
            <a:chExt cx="2362320" cy="3507840"/>
          </a:xfrm>
        </p:grpSpPr>
        <p:sp>
          <p:nvSpPr>
            <p:cNvPr id="100" name=""/>
            <p:cNvSpPr/>
            <p:nvPr/>
          </p:nvSpPr>
          <p:spPr>
            <a:xfrm flipV="1">
              <a:off x="2057400" y="3779640"/>
              <a:ext cx="914400" cy="68580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905120" y="2666880"/>
              <a:ext cx="1218960" cy="59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Relevant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Range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523880" y="5715000"/>
              <a:ext cx="2362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Variable Cost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943600" y="2666880"/>
            <a:ext cx="2438280" cy="3507840"/>
            <a:chOff x="5943600" y="2666880"/>
            <a:chExt cx="2438280" cy="3507840"/>
          </a:xfrm>
        </p:grpSpPr>
        <p:sp>
          <p:nvSpPr>
            <p:cNvPr id="104" name=""/>
            <p:cNvSpPr/>
            <p:nvPr/>
          </p:nvSpPr>
          <p:spPr>
            <a:xfrm>
              <a:off x="6553080" y="4084560"/>
              <a:ext cx="990720" cy="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543800" y="3627360"/>
              <a:ext cx="533520" cy="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943600" y="4465800"/>
              <a:ext cx="609480" cy="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00800" y="2666880"/>
              <a:ext cx="1219320" cy="59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Relevant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Range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19920" y="5715000"/>
              <a:ext cx="2361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Fixed Cost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109440"/>
            <a:ext cx="7772400" cy="88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tal Costs and Unit Cos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Unit Cost (or Average Cost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otal cost / some number of uni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934320" y="647712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38 - 39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80880" y="2362320"/>
            <a:ext cx="838224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verage cos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Total manufacturing costs / Number of units produced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$980,000 / 10,00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$98 per uni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0880" y="4419720"/>
            <a:ext cx="84582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Unit or average costs must be interpreted with caution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s volume increases, the unit or average cost falls as the fixed costs are spread over a larger number of uni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109440"/>
            <a:ext cx="7772400" cy="88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ypes of Inventor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38224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tailer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erchandising inventor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934320" y="647712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 39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80880" y="2590920"/>
            <a:ext cx="838224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nufacturer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irect material inventory (stock awaiting use in the manufacturing process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Work-in process inventory (partially completed goods on the shop floor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nished goods inventory (goods completed but not yet sold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109440"/>
            <a:ext cx="7772400" cy="88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eriod and Product Cos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458200" cy="4892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eriod Cos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re expensed on the income statement as they are incurre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lso called operating costs (excluding cost of goods sold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xamples: selling, general and administrative cos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oduct Cos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re inventoried on the balance sheet and expensed only when the product or service is sol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lso called inventoriable cos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xamples: materials and labour (manufacturing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934320" y="647712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40 - 41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02T17:02:44Z</dcterms:created>
  <dc:creator>User</dc:creator>
  <dc:description/>
  <dc:language>en-US</dc:language>
  <cp:lastModifiedBy>John Moore</cp:lastModifiedBy>
  <cp:lastPrinted>1999-06-02T19:49:26Z</cp:lastPrinted>
  <dcterms:modified xsi:type="dcterms:W3CDTF">2003-03-22T13:37:54Z</dcterms:modified>
  <cp:revision>11</cp:revision>
  <dc:subject/>
  <dc:title>Costs and Cost Objects</dc:title>
</cp:coreProperties>
</file>